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777240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7240" y="3530160"/>
            <a:ext cx="777240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379260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9920" y="1104480"/>
            <a:ext cx="379260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7240" y="3530160"/>
            <a:ext cx="379260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9920" y="3530160"/>
            <a:ext cx="379260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250236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5240" y="1104480"/>
            <a:ext cx="250236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2880" y="1104480"/>
            <a:ext cx="250236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7240" y="3530160"/>
            <a:ext cx="250236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5240" y="3530160"/>
            <a:ext cx="250236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2880" y="3530160"/>
            <a:ext cx="250236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7240" y="110448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37926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920" y="1104480"/>
            <a:ext cx="37926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52560"/>
            <a:ext cx="77724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379260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920" y="1104480"/>
            <a:ext cx="37926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7240" y="3530160"/>
            <a:ext cx="379260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37926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9920" y="1104480"/>
            <a:ext cx="379260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9920" y="3530160"/>
            <a:ext cx="379260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379260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104480"/>
            <a:ext cx="379260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7240" y="3530160"/>
            <a:ext cx="777240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304920"/>
            <a:ext cx="8231040" cy="6183360"/>
            <a:chOff x="457200" y="304920"/>
            <a:chExt cx="8231040" cy="6183360"/>
          </a:xfrm>
        </p:grpSpPr>
        <p:grpSp>
          <p:nvGrpSpPr>
            <p:cNvPr id="1" name="Group 3"/>
            <p:cNvGrpSpPr/>
            <p:nvPr/>
          </p:nvGrpSpPr>
          <p:grpSpPr>
            <a:xfrm>
              <a:off x="457200" y="304920"/>
              <a:ext cx="8231040" cy="1459080"/>
              <a:chOff x="457200" y="304920"/>
              <a:chExt cx="8231040" cy="145908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457200" y="314640"/>
                <a:ext cx="136440" cy="1449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8550000" y="304920"/>
                <a:ext cx="137880" cy="144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457200" y="309600"/>
                <a:ext cx="8231040" cy="163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grpSp>
          <p:nvGrpSpPr>
            <p:cNvPr id="5" name="Group 7"/>
            <p:cNvGrpSpPr/>
            <p:nvPr/>
          </p:nvGrpSpPr>
          <p:grpSpPr>
            <a:xfrm>
              <a:off x="457200" y="471600"/>
              <a:ext cx="8231040" cy="6016680"/>
              <a:chOff x="457200" y="471600"/>
              <a:chExt cx="8231040" cy="6016680"/>
            </a:xfrm>
          </p:grpSpPr>
          <p:sp>
            <p:nvSpPr>
              <p:cNvPr id="6" name="Freeform 8"/>
              <p:cNvSpPr/>
              <p:nvPr/>
            </p:nvSpPr>
            <p:spPr>
              <a:xfrm>
                <a:off x="457200" y="1290960"/>
                <a:ext cx="125280" cy="5197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550000" y="1195560"/>
                <a:ext cx="133200" cy="5278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57200" y="6334200"/>
                <a:ext cx="8231040" cy="139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591840" y="471600"/>
                <a:ext cx="7957800" cy="585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Click to edit the title text format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7240" y="110448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66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7887240" y="6445080"/>
            <a:ext cx="1423440" cy="39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</a:t>
            </a:r>
            <a:fld id="{4E208DB2-CEFD-45E6-8D73-99598BC6E866}" type="slidenum">
              <a:rPr b="0" lang="en-US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7851600" y="6170760"/>
            <a:ext cx="83196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lid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660240" y="6427800"/>
            <a:ext cx="325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© 2003  South-Western/Thomson Learning™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61920"/>
            <a:ext cx="7772400" cy="98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Simple Linear Regression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04880" y="1082160"/>
            <a:ext cx="7727760" cy="474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mple Linear Regression Mod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east Squares Method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efficient of Determin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odel Assump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esting for Significan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cel’s Regression Too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sing the Estimated Regression Equ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r Estimation and Predic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sidual Analysis: Validating Model Assump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utliers and Influential Observa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38360" y="151128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Producing a Scatter Diagra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Step 6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en the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hart Location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dialog box appears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pecify the location for the new char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lect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Finish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to display the scatter diagra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90040" y="147600"/>
            <a:ext cx="794412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 to Develop a Scatter Diagram</a:t>
            </a: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and Compute the Estimated Regression Equation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12800" y="137160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Adding the Trendlin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Step 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Position the mouse pointer over any dat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int and right click to display the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har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menu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Step 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Select the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dd Trendlin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op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Step 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When the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dd Trendlin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dialog box appears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n the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Typ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tab select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Linea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n the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Options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ab select the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Displa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equation on char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box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OK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590040" y="147600"/>
            <a:ext cx="794412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 to Develop a Scatter Diagram</a:t>
            </a: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and Compute the Estimated Regression Equation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7240" y="111924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Scatter Diagra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1154160" y="1689120"/>
          <a:ext cx="7226280" cy="412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1689120"/>
                    <a:ext cx="7226280" cy="4127400"/>
                  </a:xfrm>
                  <a:prstGeom prst="rect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590040" y="147600"/>
            <a:ext cx="794412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 to Develop a Scatter Diagram</a:t>
            </a: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and Compute the Estimated Regression Equation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0"/>
          <p:cNvSpPr/>
          <p:nvPr/>
        </p:nvSpPr>
        <p:spPr>
          <a:xfrm>
            <a:off x="3571920" y="3395520"/>
            <a:ext cx="1987560" cy="52416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2147760" y="1655640"/>
            <a:ext cx="4819680" cy="104472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488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The Coefficient of Determination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360" y="1106280"/>
            <a:ext cx="7772400" cy="462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Relationship Among SST, SSR, SS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ST = SSR + SS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Coefficient of Determin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SSR/SS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ere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ST = total sum of squar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SR = sum of squares due to regress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SE = sum of squares due to erro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99" name="Group 8"/>
          <p:cNvGrpSpPr/>
          <p:nvPr/>
        </p:nvGrpSpPr>
        <p:grpSpPr>
          <a:xfrm>
            <a:off x="2230560" y="2076480"/>
            <a:ext cx="4674960" cy="498240"/>
            <a:chOff x="2230560" y="2076480"/>
            <a:chExt cx="4674960" cy="498240"/>
          </a:xfrm>
        </p:grpSpPr>
        <p:grpSp>
          <p:nvGrpSpPr>
            <p:cNvPr id="100" name="Group 7"/>
            <p:cNvGrpSpPr/>
            <p:nvPr/>
          </p:nvGrpSpPr>
          <p:grpSpPr>
            <a:xfrm>
              <a:off x="2230560" y="2095560"/>
              <a:ext cx="4674960" cy="479160"/>
              <a:chOff x="2230560" y="2095560"/>
              <a:chExt cx="4674960" cy="479160"/>
            </a:xfrm>
          </p:grpSpPr>
          <p:graphicFrame>
            <p:nvGraphicFramePr>
              <p:cNvPr id="101" name="Object 4"/>
              <p:cNvGraphicFramePr/>
              <p:nvPr/>
            </p:nvGraphicFramePr>
            <p:xfrm>
              <a:off x="2230560" y="2192400"/>
              <a:ext cx="4674960" cy="382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2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230560" y="2192400"/>
                        <a:ext cx="4674960" cy="382320"/>
                      </a:xfrm>
                      <a:prstGeom prst="rect">
                        <a:avLst/>
                      </a:prstGeom>
                      <a:ln w="0">
                        <a:noFill/>
                      </a:ln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</p:spPr>
                  </p:pic>
                </p:oleObj>
              </a:graphicData>
            </a:graphic>
          </p:graphicFrame>
          <p:sp>
            <p:nvSpPr>
              <p:cNvPr id="103" name="Rectangle 5"/>
              <p:cNvSpPr/>
              <p:nvPr/>
            </p:nvSpPr>
            <p:spPr>
              <a:xfrm>
                <a:off x="6345720" y="2095560"/>
                <a:ext cx="3276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Book Antiqua"/>
                  </a:rPr>
                  <a:t>^</a:t>
                </a:r>
                <a:endParaRPr b="0" lang="en-US" sz="20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sp>
          <p:nvSpPr>
            <p:cNvPr id="104" name="Rectangle 6"/>
            <p:cNvSpPr/>
            <p:nvPr/>
          </p:nvSpPr>
          <p:spPr>
            <a:xfrm>
              <a:off x="4202640" y="2076480"/>
              <a:ext cx="327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 Antiqua"/>
                </a:rPr>
                <a:t>^</a:t>
              </a:r>
              <a:endParaRPr b="0" lang="en-US" sz="2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110916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Coefficient of Determin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SSR/SST = 100/114 = .8772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regression relationship is very strong since 88% of the variation in number of cars sold can be explained by the linear relationship between the number of TV ads and the number of cars sold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13968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Example:  Reed Auto Sales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4760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 to Compute</a:t>
            </a: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the Coefficient of Determination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Producing R</a:t>
            </a:r>
            <a:r>
              <a:rPr b="0" lang="en-US" sz="2400" spc="-1" strike="noStrike" baseline="30000">
                <a:solidFill>
                  <a:srgbClr val="66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Step 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Position the mouse pointer over any dat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int in the scatter diagram and right click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Step 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When the Chart menu appears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lect the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dd Trendlin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op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Step 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When the Add Trendline dialog box appears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n the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Option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tab, select the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Display R-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        squared value on char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box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OK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4760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 to Compute</a:t>
            </a: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the Coefficient of Determination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Value Worksheet (showing R</a:t>
            </a:r>
            <a:r>
              <a:rPr b="0" lang="en-US" sz="2400" spc="-1" strike="noStrike" baseline="30000">
                <a:solidFill>
                  <a:srgbClr val="66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1154160" y="1689120"/>
          <a:ext cx="7226280" cy="412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1689120"/>
                    <a:ext cx="7226280" cy="4127400"/>
                  </a:xfrm>
                  <a:prstGeom prst="rect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1204920" y="1684440"/>
            <a:ext cx="6734160" cy="145080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7840"/>
            <a:ext cx="777240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The Correlation Coefficient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109520"/>
            <a:ext cx="7772400" cy="50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Sample Correlation Coefficie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ere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the slope of the estimated regress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quation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1257480" y="2419200"/>
                <a:ext cx="29509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gn of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5"/>
              <p:cNvSpPr txBox="1"/>
              <p:nvPr/>
            </p:nvSpPr>
            <p:spPr>
              <a:xfrm>
                <a:off x="1257480" y="1762200"/>
                <a:ext cx="66085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gn of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Coefficient of Determinatio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6"/>
              <p:cNvSpPr txBox="1"/>
              <p:nvPr/>
            </p:nvSpPr>
            <p:spPr>
              <a:xfrm>
                <a:off x="3848040" y="4210200"/>
                <a:ext cx="14907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Example:  Reed Auto Sales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Sample Correlation Coefficie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sign of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n the equation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is “+”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r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x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 +.9366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3048120" y="1676520"/>
                <a:ext cx="29509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gn of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122" name="Object 5"/>
          <p:cNvGraphicFramePr/>
          <p:nvPr/>
        </p:nvGraphicFramePr>
        <p:xfrm>
          <a:off x="5181480" y="2482920"/>
          <a:ext cx="149076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482920"/>
                    <a:ext cx="1490760" cy="4190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3c0023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24" name="Object 6"/>
          <p:cNvGraphicFramePr/>
          <p:nvPr/>
        </p:nvGraphicFramePr>
        <p:xfrm>
          <a:off x="3571920" y="3070080"/>
          <a:ext cx="1861920" cy="5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1920" y="3070080"/>
                    <a:ext cx="1861920" cy="5652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Model Assumptions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110916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Assumptions About the Error Term </a:t>
            </a:r>
            <a:r>
              <a:rPr b="0" i="1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error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is a random variable with mean of zero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variance of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, denoted by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is the same for all values of the independent variabl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values of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are independent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error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is a normally distributed random variabl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432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The Simple Linear Regression Model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098360"/>
            <a:ext cx="7772400" cy="460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Simple Linear Regression Model</a:t>
            </a:r>
            <a:r>
              <a:rPr b="0" lang="en-US" sz="2400" spc="-1" strike="noStrike">
                <a:solidFill>
                  <a:srgbClr val="fafd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Simple Linear Regression Equ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(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)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Estimated Simple Linear Regression Equ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761280" y="3600360"/>
            <a:ext cx="32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^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Testing for Significance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o test for a significant regression relationship, we must conduct a hypothesis test to determine whether the value of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s zero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wo tests are commonly us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Tes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Tes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oth tests require an estimate of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the variance of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n the regression model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1916280" y="3527280"/>
            <a:ext cx="5311440" cy="65268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3121200" y="2496960"/>
            <a:ext cx="3163680" cy="57960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Testing for Significance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An Estimate of </a:t>
            </a:r>
            <a:r>
              <a:rPr b="0" i="1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 </a:t>
            </a:r>
            <a:r>
              <a:rPr b="0" lang="en-US" sz="2400" spc="-1" strike="noStrike" baseline="30000">
                <a:solidFill>
                  <a:srgbClr val="66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mean square error (MSE) provides the estimat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f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and the notation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s also used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MSE = SSE/(n-2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ere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2004840" y="3587760"/>
                <a:ext cx="51991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E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3049560" y="2728800"/>
            <a:ext cx="3062160" cy="114804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Testing for Significance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An Estimate of </a:t>
            </a:r>
            <a:r>
              <a:rPr b="0" i="1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o estimate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we take the square root of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resulting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s called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standard error of the estimat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3149640" y="2806560"/>
                <a:ext cx="2843280" cy="9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SE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8"/>
          <p:cNvSpPr/>
          <p:nvPr/>
        </p:nvSpPr>
        <p:spPr>
          <a:xfrm>
            <a:off x="2583000" y="4309920"/>
            <a:ext cx="3905280" cy="53820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3813120" y="1522440"/>
            <a:ext cx="1523880" cy="98892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4360" y="1109520"/>
            <a:ext cx="7772400" cy="51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Hypothes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Test Statistic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Rejection Ru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ject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f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&lt; -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t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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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r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&gt;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t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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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ere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t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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s based on a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distribution wit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- 2 degrees of freedom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4021200" y="2816280"/>
            <a:ext cx="1089000" cy="103032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Testing for Significance:  </a:t>
            </a:r>
            <a:r>
              <a:rPr b="0" i="1" lang="en-US" sz="2800" spc="-1" strike="noStrike">
                <a:solidFill>
                  <a:srgbClr val="66ffff"/>
                </a:solidFill>
                <a:latin typeface="Book Antiqua"/>
              </a:rPr>
              <a:t>t</a:t>
            </a: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  Test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44" name="Line 4"/>
          <p:cNvSpPr/>
          <p:nvPr/>
        </p:nvSpPr>
        <p:spPr>
          <a:xfrm flipV="1">
            <a:off x="4811760" y="2108160"/>
            <a:ext cx="158760" cy="184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5"/>
              <p:cNvSpPr txBox="1"/>
              <p:nvPr/>
            </p:nvSpPr>
            <p:spPr>
              <a:xfrm>
                <a:off x="4114800" y="2908440"/>
                <a:ext cx="1658880" cy="96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4360" y="1106280"/>
            <a:ext cx="7772400" cy="514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ff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  Test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Hypotheses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    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Rejection Ru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r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.05 and d.f. = 3,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.025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3.182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ject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f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&gt; 3.182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Test Statistic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t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= 5/1.08 = 4.63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Conclus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ject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Line 5"/>
          <p:cNvSpPr/>
          <p:nvPr/>
        </p:nvSpPr>
        <p:spPr>
          <a:xfrm flipV="1">
            <a:off x="4822920" y="2117520"/>
            <a:ext cx="158760" cy="183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685800" y="13968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Example:  Reed Auto Sales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Confidence Interval for </a:t>
            </a:r>
            <a:r>
              <a:rPr b="0" i="1" lang="en-US" sz="2800" spc="-1" strike="noStrike">
                <a:solidFill>
                  <a:srgbClr val="66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66ffff"/>
                </a:solidFill>
                <a:latin typeface="Book Antiqua"/>
              </a:rPr>
              <a:t>1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7240" y="1104840"/>
            <a:ext cx="7772400" cy="529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e can use a 95% confidence interval for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to test the hypotheses just used in the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test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s rejected if the hypothesized value of 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s not included in the confidence interval for 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745080" y="1654200"/>
            <a:ext cx="1596960" cy="62388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Confidence Interval for </a:t>
            </a:r>
            <a:r>
              <a:rPr b="0" i="1" lang="en-US" sz="2800" spc="-1" strike="noStrike">
                <a:solidFill>
                  <a:srgbClr val="66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66ffff"/>
                </a:solidFill>
                <a:latin typeface="Book Antiqua"/>
              </a:rPr>
              <a:t>1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form of a confidence interval for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s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is the point estimat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s the margin of erro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s the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value providing an are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f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/2 in the upper tail of 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distribution with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 2 degre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f freedo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3835440" y="1681200"/>
                <a:ext cx="1457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5"/>
              <p:cNvSpPr txBox="1"/>
              <p:nvPr/>
            </p:nvSpPr>
            <p:spPr>
              <a:xfrm>
                <a:off x="2459160" y="2832120"/>
                <a:ext cx="8586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6"/>
              <p:cNvSpPr txBox="1"/>
              <p:nvPr/>
            </p:nvSpPr>
            <p:spPr>
              <a:xfrm>
                <a:off x="2749680" y="3284640"/>
                <a:ext cx="5443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Example:  Reed Auto Sales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Rejection Ru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ject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f 0 is not included in the confidence interval for 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95% Confidence Interval for </a:t>
            </a:r>
            <a:r>
              <a:rPr b="0" i="1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66ffff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= 5 +/- 3.182(1.08) = 5 +/- 3.44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r    1.56 to 8.44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ject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1747800" y="2765520"/>
                <a:ext cx="14558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759120" y="1523880"/>
            <a:ext cx="1481040" cy="100188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3454560" y="2830680"/>
            <a:ext cx="2234880" cy="50796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236760" y="3716280"/>
            <a:ext cx="2656080" cy="52236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685800" y="171360"/>
            <a:ext cx="77724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Testing for Significance: </a:t>
            </a:r>
            <a:r>
              <a:rPr b="0" i="1" lang="en-US" sz="2800" spc="-1" strike="noStrike">
                <a:solidFill>
                  <a:srgbClr val="66ffff"/>
                </a:solidFill>
                <a:latin typeface="Book Antiqua"/>
              </a:rPr>
              <a:t>F</a:t>
            </a: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  Tes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684360" y="1109520"/>
            <a:ext cx="777240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Hypothes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  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Test Statistic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MSR/MS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Rejection Ru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ject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f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&gt;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ere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s based on an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distribution with 1 d.f. in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numerator and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- 2 d.f. in the denominator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5" name="Line 4"/>
          <p:cNvSpPr/>
          <p:nvPr/>
        </p:nvSpPr>
        <p:spPr>
          <a:xfrm flipV="1">
            <a:off x="4726080" y="2127240"/>
            <a:ext cx="158760" cy="184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684360" y="1109520"/>
            <a:ext cx="7772400" cy="50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ff"/>
                </a:solidFill>
                <a:latin typeface="Book Antiqua"/>
              </a:rPr>
              <a:t>F 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 Tes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Hypotheses</a:t>
            </a:r>
            <a:r>
              <a:rPr b="0" i="1" lang="en-US" sz="2400" spc="-1" strike="noStrike">
                <a:solidFill>
                  <a:srgbClr val="66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    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Rejection Ru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e405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be405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be405"/>
                </a:solidFill>
                <a:latin typeface="Book Antiqu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r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.05 and d.f. = 1, 3: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.05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10.13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ject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f F &gt; 10.13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Test Statistic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MSR/MSE = 100/4.667 = 21.43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e can reject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7" name="Line 3"/>
          <p:cNvSpPr/>
          <p:nvPr/>
        </p:nvSpPr>
        <p:spPr>
          <a:xfrm flipV="1">
            <a:off x="4819680" y="2108160"/>
            <a:ext cx="158760" cy="184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85800" y="139680"/>
            <a:ext cx="7772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Example:  Reed Auto Sa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6"/>
          <p:cNvSpPr/>
          <p:nvPr/>
        </p:nvSpPr>
        <p:spPr>
          <a:xfrm>
            <a:off x="3301920" y="1727280"/>
            <a:ext cx="2400480" cy="64764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432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Least Squares Method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10916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Least Squares Criter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ere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observed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value of the dependent variab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r the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 observ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estimated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value of the dependent variab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r the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 observ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3435480" y="1835280"/>
                <a:ext cx="29685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0" name="Rectangle 5"/>
          <p:cNvSpPr/>
          <p:nvPr/>
        </p:nvSpPr>
        <p:spPr>
          <a:xfrm>
            <a:off x="1624320" y="3835440"/>
            <a:ext cx="32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^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824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Some Cautions about the</a:t>
            </a: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Interpretation of Significance Tests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6920" y="167652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jecting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0 and concluding that the relationship between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s significant does not enable us to conclude that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cause-and-effect relationship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s present between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Just because we are able to reject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0 and demonstrate statistical significance does not enable us to conclude that there is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linear relationship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between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’s Regression Tool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p to this point, you have seen how Excel can be used for various parts of a regression analysi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cel also has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comprehensive tool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n its Data Analysis package call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Regression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Regression tool can be used to perform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complete regression analysi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’s Regression Tool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Formula Worksheet (showing data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75" name="Object 4"/>
          <p:cNvGraphicFramePr/>
          <p:nvPr/>
        </p:nvGraphicFramePr>
        <p:xfrm>
          <a:off x="1123920" y="1828800"/>
          <a:ext cx="7062840" cy="28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1828800"/>
                    <a:ext cx="70628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’s Regression Tool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Performing the Regression Analysi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Step 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Select the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Tool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pull-down menu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Step 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Choose the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Data Analysi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op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Step 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Choose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Regression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from the list of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nalysis Tool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… 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continu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Line 4"/>
          <p:cNvSpPr/>
          <p:nvPr/>
        </p:nvSpPr>
        <p:spPr>
          <a:xfrm>
            <a:off x="6324480" y="3524400"/>
            <a:ext cx="495360" cy="0"/>
          </a:xfrm>
          <a:prstGeom prst="line">
            <a:avLst/>
          </a:prstGeom>
          <a:ln w="1260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’s Regression Tool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Performing the Regression Analysi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Step 4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When the Regression dialog box appears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nter C1:C6 in the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put Y Rang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box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nter B1:B6 in the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put X Rang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box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lect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Labe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lect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nfidenc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nter 95 in the Confidence Level box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lect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Output Rang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nter A9 (any cell) in the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Ouput Rang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box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OK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to begin the regression analysi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’s Regression Tool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Value Workshee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84" name="Object 4"/>
          <p:cNvGraphicFramePr/>
          <p:nvPr/>
        </p:nvGraphicFramePr>
        <p:xfrm>
          <a:off x="466560" y="1609560"/>
          <a:ext cx="8266320" cy="477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609560"/>
                    <a:ext cx="826632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Rectangle 5"/>
          <p:cNvSpPr/>
          <p:nvPr/>
        </p:nvSpPr>
        <p:spPr>
          <a:xfrm>
            <a:off x="701640" y="1784520"/>
            <a:ext cx="3192480" cy="106020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701640" y="3379680"/>
            <a:ext cx="2206800" cy="106200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693720" y="4621320"/>
            <a:ext cx="5502240" cy="87156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700200" y="5672160"/>
            <a:ext cx="8028000" cy="52236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AutoShape 9"/>
          <p:cNvSpPr/>
          <p:nvPr/>
        </p:nvSpPr>
        <p:spPr>
          <a:xfrm>
            <a:off x="3357720" y="3821040"/>
            <a:ext cx="1742760" cy="447840"/>
          </a:xfrm>
          <a:prstGeom prst="wedgeRoundRectCallout">
            <a:avLst>
              <a:gd name="adj1" fmla="val -43990"/>
              <a:gd name="adj2" fmla="val 115601"/>
              <a:gd name="adj3" fmla="val 16667"/>
            </a:avLst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NOVA Outpu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AutoShape 10"/>
          <p:cNvSpPr/>
          <p:nvPr/>
        </p:nvSpPr>
        <p:spPr>
          <a:xfrm>
            <a:off x="3247920" y="3002040"/>
            <a:ext cx="3238560" cy="420480"/>
          </a:xfrm>
          <a:prstGeom prst="wedgeRoundRectCallout">
            <a:avLst>
              <a:gd name="adj1" fmla="val -59703"/>
              <a:gd name="adj2" fmla="val 126601"/>
              <a:gd name="adj3" fmla="val 16667"/>
            </a:avLst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Regression Statistics Outpu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4572000" y="2319480"/>
            <a:ext cx="1220760" cy="420480"/>
          </a:xfrm>
          <a:prstGeom prst="wedgeRoundRectCallout">
            <a:avLst>
              <a:gd name="adj1" fmla="val -100712"/>
              <a:gd name="adj2" fmla="val -80564"/>
              <a:gd name="adj3" fmla="val 16667"/>
            </a:avLst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at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AutoShape 12"/>
          <p:cNvSpPr/>
          <p:nvPr/>
        </p:nvSpPr>
        <p:spPr>
          <a:xfrm>
            <a:off x="5326200" y="4067280"/>
            <a:ext cx="3240000" cy="479160"/>
          </a:xfrm>
          <a:prstGeom prst="wedgeRoundRectCallout">
            <a:avLst>
              <a:gd name="adj1" fmla="val 25453"/>
              <a:gd name="adj2" fmla="val 272185"/>
              <a:gd name="adj3" fmla="val 16667"/>
            </a:avLst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Regression Equation Outpu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’s Regression Tool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Estimated Regression Equation Output (left portion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1944720" y="3838680"/>
            <a:ext cx="38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ote:  Columns F-I are not shown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97" name="Object 5"/>
          <p:cNvGraphicFramePr/>
          <p:nvPr/>
        </p:nvGraphicFramePr>
        <p:xfrm>
          <a:off x="1600200" y="1771560"/>
          <a:ext cx="5965920" cy="198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71560"/>
                    <a:ext cx="596592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’s Regression Tool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6880" y="1104480"/>
            <a:ext cx="803916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Estimated Regression Equation Output (right portion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981720" y="3743280"/>
            <a:ext cx="35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ote:  Columns C-E are hidden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202" name="Object 5"/>
          <p:cNvGraphicFramePr/>
          <p:nvPr/>
        </p:nvGraphicFramePr>
        <p:xfrm>
          <a:off x="606600" y="1790640"/>
          <a:ext cx="8194680" cy="18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1790640"/>
                    <a:ext cx="8194680" cy="18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’s Regression Tool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ANOVA Outpu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206" name="Object 4"/>
          <p:cNvGraphicFramePr/>
          <p:nvPr/>
        </p:nvGraphicFramePr>
        <p:xfrm>
          <a:off x="763560" y="1779480"/>
          <a:ext cx="7788240" cy="228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1779480"/>
                    <a:ext cx="778824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’s Regression Tool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Regression Statistics Outpu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210" name="Object 4"/>
          <p:cNvGraphicFramePr/>
          <p:nvPr/>
        </p:nvGraphicFramePr>
        <p:xfrm>
          <a:off x="1123920" y="1752480"/>
          <a:ext cx="7040520" cy="324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1752480"/>
                    <a:ext cx="7040520" cy="32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0"/>
          <p:cNvSpPr/>
          <p:nvPr/>
        </p:nvSpPr>
        <p:spPr>
          <a:xfrm>
            <a:off x="3716280" y="3236760"/>
            <a:ext cx="1711440" cy="58104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2711520" y="1668600"/>
            <a:ext cx="3730680" cy="101592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4360" y="1109520"/>
            <a:ext cx="7772400" cy="522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Slope for the Estimated Regression Equ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ff"/>
                </a:solidFill>
                <a:latin typeface="Book Antiqua"/>
              </a:rPr>
              <a:t>y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-Intercept for the Estimated Regression Equ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ere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value of independent variable for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 observ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value of dependent variable for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 observ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mean value for independent variab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mean value for dependent variab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total number of observa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5037120" y="3038400"/>
            <a:ext cx="317160" cy="4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00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_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4379760" y="3048120"/>
            <a:ext cx="317160" cy="4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00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_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5"/>
              <p:cNvSpPr txBox="1"/>
              <p:nvPr/>
            </p:nvSpPr>
            <p:spPr>
              <a:xfrm>
                <a:off x="2819520" y="1773360"/>
                <a:ext cx="397188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)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</m:e>
                                </m:nary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f>
                                  <m:fPr>
                                    <m:type m:val="lin"/>
                                  </m:fPr>
                                  <m:num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nary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Rectangle 6"/>
          <p:cNvSpPr/>
          <p:nvPr/>
        </p:nvSpPr>
        <p:spPr>
          <a:xfrm>
            <a:off x="1116000" y="505764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_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1125360" y="465948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_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17136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The Least Squares Method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3625920" y="3008160"/>
            <a:ext cx="1930320" cy="63828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684360" y="1109520"/>
            <a:ext cx="7772400" cy="47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Confidence Interval Estimate of </a:t>
            </a:r>
            <a:r>
              <a:rPr b="0" i="1" lang="en-US" sz="2400" spc="-1" strike="noStrike">
                <a:solidFill>
                  <a:srgbClr val="66ffff"/>
                </a:solidFill>
                <a:latin typeface="Book Antiqua"/>
              </a:rPr>
              <a:t>E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(</a:t>
            </a:r>
            <a:r>
              <a:rPr b="0" i="1" lang="en-US" sz="2400" spc="-1" strike="noStrike">
                <a:solidFill>
                  <a:srgbClr val="66ffff"/>
                </a:solidFill>
                <a:latin typeface="Book Antiqua"/>
              </a:rPr>
              <a:t>y</a:t>
            </a:r>
            <a:r>
              <a:rPr b="0" i="1" lang="en-US" sz="2400" spc="-1" strike="noStrike" baseline="-25000">
                <a:solidFill>
                  <a:srgbClr val="66ffff"/>
                </a:solidFill>
                <a:latin typeface="Book Antiqua"/>
              </a:rPr>
              <a:t>p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Prediction Interval Estimate of </a:t>
            </a:r>
            <a:r>
              <a:rPr b="0" i="1" lang="en-US" sz="2400" spc="-1" strike="noStrike">
                <a:solidFill>
                  <a:srgbClr val="66ffff"/>
                </a:solidFill>
                <a:latin typeface="Book Antiqua"/>
              </a:rPr>
              <a:t>y</a:t>
            </a:r>
            <a:r>
              <a:rPr b="0" i="1" lang="en-US" sz="2400" spc="-1" strike="noStrike" baseline="-25000">
                <a:solidFill>
                  <a:srgbClr val="66ffff"/>
                </a:solidFill>
                <a:latin typeface="Book Antiqu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t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/2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in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ere the confidence coefficient is 1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and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t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/2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s based on a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 t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istribution with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- 2 d.f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3630600" y="1684440"/>
            <a:ext cx="1930320" cy="63792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690480" y="144360"/>
            <a:ext cx="77724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the Estimated Regression Equation</a:t>
            </a: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for Estimation and Predic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3835440" y="1784520"/>
                <a:ext cx="240804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4360" y="1109160"/>
            <a:ext cx="7772400" cy="544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Point Estim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f 3 TV ads are run prior to a sale, we expect the mean number of cars sold to be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10 + 5(3) = 25 ca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Confidence Interval for </a:t>
            </a:r>
            <a:r>
              <a:rPr b="0" i="1" lang="en-US" sz="2400" spc="-1" strike="noStrike">
                <a:solidFill>
                  <a:srgbClr val="66ffff"/>
                </a:solidFill>
                <a:latin typeface="Book Antiqua"/>
              </a:rPr>
              <a:t>E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(</a:t>
            </a:r>
            <a:r>
              <a:rPr b="0" i="1" lang="en-US" sz="2400" spc="-1" strike="noStrike">
                <a:solidFill>
                  <a:srgbClr val="66ffff"/>
                </a:solidFill>
                <a:latin typeface="Book Antiqua"/>
              </a:rPr>
              <a:t>y</a:t>
            </a:r>
            <a:r>
              <a:rPr b="0" i="1" lang="en-US" sz="2400" spc="-1" strike="noStrike" baseline="-25000">
                <a:solidFill>
                  <a:srgbClr val="66ffff"/>
                </a:solidFill>
                <a:latin typeface="Book Antiqua"/>
              </a:rPr>
              <a:t>p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95% confidence interval estimate of the mean number of cars sold when 3 TV ads are run is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5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4.61  =  20.39 to 29.61 ca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Prediction Interval for </a:t>
            </a:r>
            <a:r>
              <a:rPr b="0" i="1" lang="en-US" sz="2400" spc="-1" strike="noStrike">
                <a:solidFill>
                  <a:srgbClr val="66ffff"/>
                </a:solidFill>
                <a:latin typeface="Book Antiqua"/>
              </a:rPr>
              <a:t>y</a:t>
            </a:r>
            <a:r>
              <a:rPr b="0" i="1" lang="en-US" sz="2400" spc="-1" strike="noStrike" baseline="-25000">
                <a:solidFill>
                  <a:srgbClr val="66ffff"/>
                </a:solidFill>
                <a:latin typeface="Book Antiqu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95% prediction interval estimate of the number of cars sold in one particular week when 3 TV ads are run is:       25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8.28  =  16.72 to 33.28 ca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3078720" y="2279520"/>
            <a:ext cx="32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^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685800" y="13968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Example:  Reed Auto Sales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4760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 to Develop Confidence and Prediction Interval Estimates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Formula Worksheet (confidence interval portion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222" name="Object 4"/>
          <p:cNvGraphicFramePr/>
          <p:nvPr/>
        </p:nvGraphicFramePr>
        <p:xfrm>
          <a:off x="1123920" y="1638360"/>
          <a:ext cx="6778800" cy="474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1638360"/>
                    <a:ext cx="6778800" cy="47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4760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 to Develop Confidence and Prediction Interval Estimates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Value Worksheet (confidence interval portion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226" name="Object 4"/>
          <p:cNvGraphicFramePr/>
          <p:nvPr/>
        </p:nvGraphicFramePr>
        <p:xfrm>
          <a:off x="1123920" y="1638360"/>
          <a:ext cx="6773760" cy="473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1638360"/>
                    <a:ext cx="6773760" cy="47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4760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 to Develop Confidence and Prediction Interval Estimates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Formula Worksheet (prediction interval portion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230" name="Object 4"/>
          <p:cNvGraphicFramePr/>
          <p:nvPr/>
        </p:nvGraphicFramePr>
        <p:xfrm>
          <a:off x="971640" y="1771560"/>
          <a:ext cx="6661080" cy="341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771560"/>
                    <a:ext cx="666108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4760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 to Develop Confidence and Prediction Interval Estimates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Value Worksheet (prediction interval portion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234" name="Object 4"/>
          <p:cNvGraphicFramePr/>
          <p:nvPr/>
        </p:nvGraphicFramePr>
        <p:xfrm>
          <a:off x="971640" y="1771560"/>
          <a:ext cx="6664320" cy="342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771560"/>
                    <a:ext cx="6664320" cy="34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84360" y="110916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f the assumptions about the error term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appear questionable, the hypothesis tests about the significance of the regression relationship and the interval estimation results may not be valid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residuals provide the best information abou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uch of the residual analysis is based on an examination of graphical plots.</a:t>
            </a: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685800" y="16488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Residual Analysis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"/>
          <p:cNvSpPr/>
          <p:nvPr/>
        </p:nvSpPr>
        <p:spPr>
          <a:xfrm>
            <a:off x="1447920" y="2762280"/>
            <a:ext cx="5905440" cy="100980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Residual Plot Against </a:t>
            </a:r>
            <a:r>
              <a:rPr b="0" i="1" lang="en-US" sz="2800" spc="-1" strike="noStrike">
                <a:solidFill>
                  <a:srgbClr val="66ffff"/>
                </a:solidFill>
                <a:latin typeface="Book Antiqua"/>
              </a:rPr>
              <a:t>x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f the assumption that the variance of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s the same for all values of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s valid, and the assumed regression model is an adequate representation of the relationship between the variables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residual plot should give an overal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mpression of a horizontal band of poin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Example:  Reed Auto Sa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687240" y="1104840"/>
            <a:ext cx="77724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Residua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243" name="Object 4"/>
          <p:cNvGraphicFramePr/>
          <p:nvPr/>
        </p:nvGraphicFramePr>
        <p:xfrm>
          <a:off x="936720" y="1774800"/>
          <a:ext cx="7273800" cy="216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720" y="1774800"/>
                    <a:ext cx="7273800" cy="21654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  <a:effectLst>
                    <a:outerShdw dist="17819" dir="2700000" blurRad="0" rotWithShape="0">
                      <a:srgbClr val="3c0023"/>
                    </a:outerShdw>
                  </a:effectLst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4760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’s Regression Tool to Construct </a:t>
            </a: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a Residual Plot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Producing a Residual Plo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steps outlined earlier to obtain the regression output are performed with one chang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en the Regression dialog box appears, we must also select the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Residual Plo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optio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output will include two new items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66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 plot of the residuals against the independent variable, an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66ffff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 list of predicted values of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and the corresponding residual value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1338120" y="3505320"/>
            <a:ext cx="6210360" cy="241272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3968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Example:  Reed Auto Sales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00160"/>
            <a:ext cx="7772400" cy="529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ctr" pos="211464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Simple Linear Regress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ctr" pos="211464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ed Auto periodically has a special week-long sale.  As part of the advertising campaign Reed runs one or more television commercials during the weekend preceding the sale.  Data from a sample of 5 previous sales are shown below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ctr" pos="211464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ctr" pos="211464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Number of TV Ad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Number of Cars Sol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ctr" pos="211464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ctr" pos="211464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ctr" pos="211464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ctr" pos="211464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7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ctr" pos="211464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7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4760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’s Regression Tool to Construct </a:t>
            </a: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a Residual Plot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Value Worksheet (showing Residual Plot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249" name="Object 5"/>
          <p:cNvGraphicFramePr/>
          <p:nvPr/>
        </p:nvGraphicFramePr>
        <p:xfrm>
          <a:off x="1236600" y="1774800"/>
          <a:ext cx="6993000" cy="369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6600" y="1774800"/>
                    <a:ext cx="6993000" cy="36925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4760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’s Regression Tool to Construct </a:t>
            </a: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a Residual Plot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Value Worksheet (Residual Output portion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253" name="Object 4"/>
          <p:cNvGraphicFramePr/>
          <p:nvPr/>
        </p:nvGraphicFramePr>
        <p:xfrm>
          <a:off x="1143000" y="1771560"/>
          <a:ext cx="6877080" cy="320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71560"/>
                    <a:ext cx="68770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0"/>
          <p:cNvSpPr/>
          <p:nvPr/>
        </p:nvSpPr>
        <p:spPr>
          <a:xfrm>
            <a:off x="3200400" y="4343400"/>
            <a:ext cx="2781360" cy="116208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684360" y="110916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Standardized Residual for Observation  </a:t>
            </a:r>
            <a:r>
              <a:rPr b="0" i="1" lang="en-US" sz="2400" spc="-1" strike="noStrike">
                <a:solidFill>
                  <a:srgbClr val="66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ere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685800" y="16488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Standardized Residuals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grpSp>
        <p:nvGrpSpPr>
          <p:cNvPr id="258" name="Group 17"/>
          <p:cNvGrpSpPr/>
          <p:nvPr/>
        </p:nvGrpSpPr>
        <p:grpSpPr>
          <a:xfrm>
            <a:off x="4049640" y="1708200"/>
            <a:ext cx="1044720" cy="1139760"/>
            <a:chOff x="4049640" y="1708200"/>
            <a:chExt cx="1044720" cy="1139760"/>
          </a:xfrm>
        </p:grpSpPr>
        <p:sp>
          <p:nvSpPr>
            <p:cNvPr id="259" name="Rectangle 11"/>
            <p:cNvSpPr/>
            <p:nvPr/>
          </p:nvSpPr>
          <p:spPr>
            <a:xfrm>
              <a:off x="4049640" y="1708200"/>
              <a:ext cx="1044720" cy="1139760"/>
            </a:xfrm>
            <a:prstGeom prst="rect">
              <a:avLst/>
            </a:prstGeom>
            <a:gradFill rotWithShape="0">
              <a:gsLst>
                <a:gs pos="0">
                  <a:srgbClr val="002f47"/>
                </a:gs>
                <a:gs pos="50000">
                  <a:srgbClr val="006699"/>
                </a:gs>
                <a:gs pos="100000">
                  <a:srgbClr val="002f47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graphicFrame>
          <p:nvGraphicFramePr>
            <p:cNvPr id="260" name="Object 14"/>
            <p:cNvGraphicFramePr/>
            <p:nvPr/>
          </p:nvGraphicFramePr>
          <p:xfrm>
            <a:off x="4179960" y="1843200"/>
            <a:ext cx="853920" cy="853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1" name="Object 1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79960" y="1843200"/>
                      <a:ext cx="853920" cy="8539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  <p:grpSp>
        <p:nvGrpSpPr>
          <p:cNvPr id="262" name="Group 18"/>
          <p:cNvGrpSpPr/>
          <p:nvPr/>
        </p:nvGrpSpPr>
        <p:grpSpPr>
          <a:xfrm>
            <a:off x="3449520" y="3422520"/>
            <a:ext cx="2225880" cy="700200"/>
            <a:chOff x="3449520" y="3422520"/>
            <a:chExt cx="2225880" cy="700200"/>
          </a:xfrm>
        </p:grpSpPr>
        <p:sp>
          <p:nvSpPr>
            <p:cNvPr id="263" name="Rectangle 10"/>
            <p:cNvSpPr/>
            <p:nvPr/>
          </p:nvSpPr>
          <p:spPr>
            <a:xfrm>
              <a:off x="3449520" y="3422520"/>
              <a:ext cx="2225880" cy="700200"/>
            </a:xfrm>
            <a:prstGeom prst="rect">
              <a:avLst/>
            </a:prstGeom>
            <a:gradFill rotWithShape="0">
              <a:gsLst>
                <a:gs pos="0">
                  <a:srgbClr val="002f47"/>
                </a:gs>
                <a:gs pos="50000">
                  <a:srgbClr val="006699"/>
                </a:gs>
                <a:gs pos="100000">
                  <a:srgbClr val="002f47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graphicFrame>
          <p:nvGraphicFramePr>
            <p:cNvPr id="264" name="Object 15"/>
            <p:cNvGraphicFramePr/>
            <p:nvPr/>
          </p:nvGraphicFramePr>
          <p:xfrm>
            <a:off x="3619440" y="3539880"/>
            <a:ext cx="1895400" cy="471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5" name="Object 1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19440" y="3539880"/>
                      <a:ext cx="1895400" cy="4716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  <p:graphicFrame>
        <p:nvGraphicFramePr>
          <p:cNvPr id="266" name="Object 19"/>
          <p:cNvGraphicFramePr/>
          <p:nvPr/>
        </p:nvGraphicFramePr>
        <p:xfrm>
          <a:off x="3319560" y="4491000"/>
          <a:ext cx="2501640" cy="87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7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19560" y="4491000"/>
                    <a:ext cx="2501640" cy="876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3c0023"/>
                    </a:outerShdw>
                  </a:effectLst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Standardized Residual Plot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standardized residual plot can provide insight about the assumption that the error term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has a normal distributio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f this assumption is satisfied, the distribution of the standardized residuals should appear to come from a standard normal probability distributio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4760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 to Construct </a:t>
            </a: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a Standardized Residual Plot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74640" y="135900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cel’s Regression tool be used to obtain the  standardized residual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steps described earlier in order to conduct a regression analysis are performed with one change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en the Regression dialog box appears, we must select the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tandardized Residual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op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Standardized Residuals option does not automatically produce a standardized residual plot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4760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 to Construct </a:t>
            </a: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a Standardized Residual Plot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Value Workshee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274" name="Object 4"/>
          <p:cNvGraphicFramePr/>
          <p:nvPr/>
        </p:nvGraphicFramePr>
        <p:xfrm>
          <a:off x="781200" y="1771560"/>
          <a:ext cx="7391160" cy="320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771560"/>
                    <a:ext cx="739116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4760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 to Construct </a:t>
            </a: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a Standardized Residual Plot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cel’s Chart Wizard can be used to construct the  standardized residual plot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 scatter diagram is developed in which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values of the independent variable are placed on the horizontal axi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values of the standardized residuals are placed on the vertical axi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31640" y="147600"/>
            <a:ext cx="834408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 to Construct a </a:t>
            </a: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Standardized Residual Plot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Standardized Residual Plo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280" name="Object 4"/>
          <p:cNvGraphicFramePr/>
          <p:nvPr/>
        </p:nvGraphicFramePr>
        <p:xfrm>
          <a:off x="781200" y="1676520"/>
          <a:ext cx="7638840" cy="407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676520"/>
                    <a:ext cx="763884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Standardized Residual Plot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ll of the standardized residuals are between –1.5 and +1.5 indicating that there is no reason to question the assumption tha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has a normal distributio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Outliers and Influential Observations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Detecting Outlie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outlier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s an observation that is unusual in comparison with the other data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initab classifies an observation as an outlier if its standardized residual value is &lt; -2 or &gt; +2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s standardized residual rule sometimes fails to identify an unusually large observation as being an outlier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s rule’s shortcoming can be circumvented by using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studentized deleted residual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|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i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 studentized deleted residual| will be larger than the |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i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 standardized residual|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4360" y="1103400"/>
            <a:ext cx="7772400" cy="475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Slope for the Estimated Regression Equ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=  220 - (10)(100)/5  =  5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4 - (10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/5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ff"/>
                </a:solidFill>
                <a:latin typeface="Book Antiqua"/>
              </a:rPr>
              <a:t>y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-Intercept for the Estimated Regression Equ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  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=  20 - 5(2)  =  10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Estimated Regression Equ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10 + 5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Line 3"/>
          <p:cNvSpPr/>
          <p:nvPr/>
        </p:nvSpPr>
        <p:spPr>
          <a:xfrm>
            <a:off x="3409920" y="2006640"/>
            <a:ext cx="217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3770640" y="3666960"/>
            <a:ext cx="32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^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13968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Example:  Reed Auto Sales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End of Chapter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3792600" y="3238560"/>
            <a:ext cx="1557360" cy="1611360"/>
          </a:xfrm>
          <a:custGeom>
            <a:avLst/>
            <a:gdLst>
              <a:gd name="textAreaLeft" fmla="*/ 54720 w 1557360"/>
              <a:gd name="textAreaRight" fmla="*/ 1502640 w 1557360"/>
              <a:gd name="textAreaTop" fmla="*/ 54720 h 1611360"/>
              <a:gd name="textAreaBottom" fmla="*/ 1556640 h 1611360"/>
            </a:gdLst>
            <a:ahLst/>
            <a:rect l="textAreaLeft" t="textAreaTop" r="textAreaRight" b="textAreaBottom"/>
            <a:pathLst>
              <a:path w="21600" h="22349">
                <a:moveTo>
                  <a:pt x="2606" y="0"/>
                </a:moveTo>
                <a:arcTo wR="2606" hR="2606" stAng="16200000" swAng="-5400000"/>
                <a:lnTo>
                  <a:pt x="0" y="19743"/>
                </a:lnTo>
                <a:arcTo wR="2606" hR="2606" stAng="10800000" swAng="-5400000"/>
                <a:lnTo>
                  <a:pt x="18994" y="22349"/>
                </a:lnTo>
                <a:arcTo wR="2606" hR="2606" stAng="5400000" swAng="-5400000"/>
                <a:lnTo>
                  <a:pt x="21600" y="2606"/>
                </a:lnTo>
                <a:arcTo wR="2606" hR="2606" stAng="0" swAng="-5400000"/>
                <a:close/>
              </a:path>
            </a:pathLst>
          </a:custGeom>
          <a:noFill/>
          <a:ln w="5076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8" name="Freeform 4"/>
          <p:cNvSpPr/>
          <p:nvPr/>
        </p:nvSpPr>
        <p:spPr>
          <a:xfrm>
            <a:off x="3949560" y="2324160"/>
            <a:ext cx="1681200" cy="2670120"/>
          </a:xfrm>
          <a:prstGeom prst="pie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147600"/>
            <a:ext cx="794412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 to Develop a Scatter Diagram</a:t>
            </a: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and Compute the Estimated Regression Equation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5400" y="142200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Formula Worksheet (showing data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1143000" y="2108160"/>
          <a:ext cx="6878520" cy="28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08160"/>
                    <a:ext cx="6878520" cy="28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12440" y="1359000"/>
            <a:ext cx="8210520" cy="521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Producing a Scatter Diagra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Step 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Select cells B1:C6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Step 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Select the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hart Wizar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Step 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When the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hart Typ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dialog box appears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hoose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XY (Scatter)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n the Chart type lis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hoose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catter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from the Chart sub-type displa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lect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Next &gt;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Step 4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When the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hart Source Data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dialog box appea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lect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Next &gt;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… 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continu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590040" y="147600"/>
            <a:ext cx="794412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 to Develop a Scatter Diagram</a:t>
            </a: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and Compute the Estimated Regression Equation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83" name="Line 5"/>
          <p:cNvSpPr/>
          <p:nvPr/>
        </p:nvSpPr>
        <p:spPr>
          <a:xfrm>
            <a:off x="6426360" y="5543640"/>
            <a:ext cx="552240" cy="0"/>
          </a:xfrm>
          <a:prstGeom prst="line">
            <a:avLst/>
          </a:prstGeom>
          <a:ln w="1260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99840" y="1346040"/>
            <a:ext cx="8172360" cy="521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Producing a Scatter Diagra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Step 5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When the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hart Option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dialog box appears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lect the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Title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tab and the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lete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ars Sold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n the Chart title box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nter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TV Ad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n the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Value (X)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axis box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nter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ars Sold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n the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Value (Y)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axis box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lect the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Legend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tab and the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move the check in the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how Legend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box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lect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Next &g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… 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continu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590040" y="147600"/>
            <a:ext cx="794412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 to Develop a Scatter Diagram</a:t>
            </a: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and Compute the Estimated Regression Equation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86" name="Line 5"/>
          <p:cNvSpPr/>
          <p:nvPr/>
        </p:nvSpPr>
        <p:spPr>
          <a:xfrm>
            <a:off x="6324480" y="5276880"/>
            <a:ext cx="552600" cy="0"/>
          </a:xfrm>
          <a:prstGeom prst="line">
            <a:avLst/>
          </a:prstGeom>
          <a:ln w="1260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27T08:56:04Z</dcterms:created>
  <dc:creator>John S. Loucks IV</dc:creator>
  <dc:description/>
  <dc:language>en-US</dc:language>
  <cp:lastModifiedBy>20452</cp:lastModifiedBy>
  <dcterms:modified xsi:type="dcterms:W3CDTF">2017-04-03T15:41:34Z</dcterms:modified>
  <cp:revision>67</cp:revision>
  <dc:subject/>
  <dc:title>Multiple Regression</dc:title>
</cp:coreProperties>
</file>